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06E4-1923-4750-8E75-4D275644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1C29-07C8-4DE4-81BE-1425676A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7141-92D1-4951-8AD9-85082973E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4B5B-09CF-4D75-9889-C7752AF9D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3D9C-BF04-49E1-8895-614D0445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6EC5-CA23-4EAB-80C2-93C1358E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DAE9-F541-4D53-83D8-FE6F99F6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6B9F-DE44-4355-8C1F-DE1ECD32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3EC9-F02A-46FE-9238-D17767C5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FC94-D4FE-49E4-90F4-32055C41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CBD7-0FCC-45F8-A755-98AABBE6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88BA-B984-4A05-A58C-D0A856A9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2AC1-2D81-49F7-A668-D22C5F3D9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Name Organizational Char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33520" y="1490760"/>
            <a:ext cx="8076240" cy="5184000"/>
            <a:chOff x="533520" y="1490760"/>
            <a:chExt cx="8076240" cy="5184000"/>
          </a:xfrm>
        </p:grpSpPr>
        <p:cxnSp>
          <p:nvCxnSpPr>
            <p:cNvPr id="43" name="_s3125"/>
            <p:cNvCxnSpPr>
              <a:stCxn id="44" idx="0"/>
              <a:endCxn id="45" idx="2"/>
            </p:cNvCxnSpPr>
            <p:nvPr/>
          </p:nvCxnSpPr>
          <p:spPr>
            <a:xfrm flipV="1" rot="16200000">
              <a:off x="5906520" y="3926160"/>
              <a:ext cx="471600" cy="3141000"/>
            </a:xfrm>
            <a:prstGeom prst="bentConnector3">
              <a:avLst>
                <a:gd name="adj1" fmla="val 499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6" name="_s3126"/>
            <p:cNvCxnSpPr>
              <a:stCxn id="47" idx="0"/>
              <a:endCxn id="45" idx="2"/>
            </p:cNvCxnSpPr>
            <p:nvPr/>
          </p:nvCxnSpPr>
          <p:spPr>
            <a:xfrm flipV="1" rot="16200000">
              <a:off x="4859640" y="4973040"/>
              <a:ext cx="471600" cy="1047240"/>
            </a:xfrm>
            <a:prstGeom prst="bentConnector3">
              <a:avLst>
                <a:gd name="adj1" fmla="val 499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3127"/>
            <p:cNvCxnSpPr>
              <a:stCxn id="49" idx="0"/>
              <a:endCxn id="45" idx="2"/>
            </p:cNvCxnSpPr>
            <p:nvPr/>
          </p:nvCxnSpPr>
          <p:spPr>
            <a:xfrm flipH="1" flipV="1" rot="5400000">
              <a:off x="3812040" y="4973040"/>
              <a:ext cx="471600" cy="1047600"/>
            </a:xfrm>
            <a:prstGeom prst="bentConnector3">
              <a:avLst>
                <a:gd name="adj1" fmla="val 499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3128"/>
            <p:cNvCxnSpPr>
              <a:stCxn id="51" idx="0"/>
              <a:endCxn id="45" idx="2"/>
            </p:cNvCxnSpPr>
            <p:nvPr/>
          </p:nvCxnSpPr>
          <p:spPr>
            <a:xfrm flipH="1" flipV="1" rot="5400000">
              <a:off x="2765160" y="3926160"/>
              <a:ext cx="471600" cy="3141360"/>
            </a:xfrm>
            <a:prstGeom prst="bentConnector3">
              <a:avLst>
                <a:gd name="adj1" fmla="val 499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3129"/>
            <p:cNvCxnSpPr>
              <a:stCxn id="53" idx="0"/>
              <a:endCxn id="54" idx="2"/>
            </p:cNvCxnSpPr>
            <p:nvPr/>
          </p:nvCxnSpPr>
          <p:spPr>
            <a:xfrm flipV="1" rot="16200000">
              <a:off x="5906160" y="3558960"/>
              <a:ext cx="471960" cy="1047600"/>
            </a:xfrm>
            <a:prstGeom prst="bentConnector3">
              <a:avLst>
                <a:gd name="adj1" fmla="val 4992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3130"/>
            <p:cNvCxnSpPr>
              <a:stCxn id="45" idx="0"/>
              <a:endCxn id="54" idx="2"/>
            </p:cNvCxnSpPr>
            <p:nvPr/>
          </p:nvCxnSpPr>
          <p:spPr>
            <a:xfrm flipH="1" flipV="1" rot="5400000">
              <a:off x="4859280" y="3559320"/>
              <a:ext cx="471960" cy="1047240"/>
            </a:xfrm>
            <a:prstGeom prst="bentConnector3">
              <a:avLst>
                <a:gd name="adj1" fmla="val 4992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3131"/>
            <p:cNvCxnSpPr>
              <a:stCxn id="54" idx="0"/>
              <a:endCxn id="57" idx="2"/>
            </p:cNvCxnSpPr>
            <p:nvPr/>
          </p:nvCxnSpPr>
          <p:spPr>
            <a:xfrm rot="16200000">
              <a:off x="5383080" y="2668680"/>
              <a:ext cx="47160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7" name="_s3132"/>
            <p:cNvSpPr/>
            <p:nvPr/>
          </p:nvSpPr>
          <p:spPr>
            <a:xfrm>
              <a:off x="4721400" y="1490760"/>
              <a:ext cx="1794600" cy="942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roject Sponso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133"/>
            <p:cNvSpPr/>
            <p:nvPr/>
          </p:nvSpPr>
          <p:spPr>
            <a:xfrm>
              <a:off x="4721400" y="2904480"/>
              <a:ext cx="1794600" cy="942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roject Manag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3134"/>
            <p:cNvSpPr/>
            <p:nvPr/>
          </p:nvSpPr>
          <p:spPr>
            <a:xfrm>
              <a:off x="3674520" y="4318560"/>
              <a:ext cx="1794600" cy="942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eam Lead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3135"/>
            <p:cNvSpPr/>
            <p:nvPr/>
          </p:nvSpPr>
          <p:spPr>
            <a:xfrm>
              <a:off x="5768640" y="4318560"/>
              <a:ext cx="1794600" cy="9388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uppli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roject Manag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3136"/>
            <p:cNvSpPr/>
            <p:nvPr/>
          </p:nvSpPr>
          <p:spPr>
            <a:xfrm>
              <a:off x="533520" y="5732280"/>
              <a:ext cx="1794600" cy="942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eam 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137"/>
            <p:cNvSpPr/>
            <p:nvPr/>
          </p:nvSpPr>
          <p:spPr>
            <a:xfrm>
              <a:off x="2627280" y="5732280"/>
              <a:ext cx="1794600" cy="942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eam 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3138"/>
            <p:cNvSpPr/>
            <p:nvPr/>
          </p:nvSpPr>
          <p:spPr>
            <a:xfrm>
              <a:off x="4721400" y="5732280"/>
              <a:ext cx="1794600" cy="938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eam 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3139"/>
            <p:cNvSpPr/>
            <p:nvPr/>
          </p:nvSpPr>
          <p:spPr>
            <a:xfrm>
              <a:off x="6815160" y="5732280"/>
              <a:ext cx="1794600" cy="942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eam 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773760" y="2223000"/>
              <a:ext cx="1759320" cy="749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ject Champ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90200" y="2151000"/>
              <a:ext cx="1794600" cy="942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ject Stee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mitte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419720" y="2666880"/>
            <a:ext cx="236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7T19:27:31Z</dcterms:created>
  <dc:creator>schwalbe</dc:creator>
  <dc:description/>
  <dc:language>en-US</dc:language>
  <cp:lastModifiedBy>schwalbe</cp:lastModifiedBy>
  <dcterms:modified xsi:type="dcterms:W3CDTF">2005-10-14T18:09:55Z</dcterms:modified>
  <cp:revision>5</cp:revision>
  <dc:subject/>
  <dc:title>Slide 1</dc:title>
</cp:coreProperties>
</file>